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7EE-16C5-4D5C-A0BB-2E5FF44D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912-9CA6-4BDB-9203-C0D8EAEE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306-A9F3-47C3-A1D1-AC7920D0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6A7-AB86-4355-A0FB-92FCA137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7BFA-70E2-4453-87E5-96D72E21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347A-BB87-4BD4-9994-3E66D4D5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04F6-3268-48B0-ADCA-83EA373C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E7D5-31AC-42A2-9CFC-AFCEDB6E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F8E8-D24A-41B0-83D8-06ACB309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1D33-7037-47B3-88A9-88633AEE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231B-0C09-4039-9D44-3F137F2E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D69-381A-40C3-974C-7AD49A28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4C18-90D7-4999-85A9-EBCBF219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A4D4-6D99-4163-BA7C-5228F20A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02B2-7E79-4CF9-B170-101FA222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4A81-3203-4C25-8C34-8DE6DB93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51BB-C28B-417F-8476-97E71456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42C-FF5E-4EA0-A62E-1D2BEB87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78F-BEAD-4F16-8AC4-EBC1FE6D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77D-221F-4D25-81BA-548047BA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3FA-80D9-4721-AB39-2D37DEFE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351-615D-409B-BBF4-CE863C50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298-62F0-4035-889B-5AA79002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2E2-4094-4391-8699-22AC6FBA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3256-2CCD-4571-BE77-31B87647EC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89CB-A426-4A07-97E5-EFCBD80FE0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Секреты квадратных уравнений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с для креатив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грамма нашего курса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Финальная встреч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 США придут пакеты с грифом «Совершенно секретно». Наша спецгруппа должна будет расшифровать эти пакеты и получить послание, а для этого придется найти ответы  - корни квадратных уравн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тог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ждый участник подготовит свое секретное послание  - придумает набор квадратных уравнений, при решении которых используются как можно больше способов нахождения корней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ем команды меняются своими заданиями и решают и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 вы думает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есообразно ли решать разные проблемы одним путе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оит ли тратить много времени на одно и то же дело, если оно  - не смысл вашей жизн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51280" y="50846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66"/>
                </a:solidFill>
                <a:latin typeface="Comic Sans MS"/>
              </a:rPr>
              <a:t>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68709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Поэтому мы не будем тратить много времени, а займемся на нашем курсе изучением </a:t>
            </a:r>
            <a:r>
              <a:rPr b="1" lang="ru-RU" sz="2600" spc="-1" strike="noStrike" u="sng">
                <a:solidFill>
                  <a:srgbClr val="330066"/>
                </a:solidFill>
                <a:uFillTx/>
                <a:latin typeface="Arial"/>
              </a:rPr>
              <a:t>квадратных уравнений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755640" y="198900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гда вы идете из школы домой и кидаете снежок в окно соседского дома, то, оказывается, он летит по определенной траектории, которая н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араболо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описывает математически параболу как раз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квадратн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 есть квадратное уравнение нужно, чтобы ответить на вопрос – попадет ли снежок в цель и сколько времени он будет лететь, если мы знаем высоту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ие 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аучиться решать проблему путем наименьших временных издержек и усил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развить  способность видеть обходные пу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ктические 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накомство с квадратными уравнен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Рассмотрение различных способов решения квадратных уравнений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, которые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озволят быстрее  находить корн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660680"/>
            <a:ext cx="769608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 проведения курса – деловая иг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ачале курса всем придет сообщ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бнаружен неизвестный объект, получивший кодовое название «квадратное уравнение». Цель – собрать более полную информацию про объек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грамма нашего курса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Сбор консилиума специалис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наружен неизвестный объект, связанный с полетом снежка: квадратное уравн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обходимо его тщательное исслед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грамма нашего курса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Разделение специалистов по группа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торики (как решали квадратное уравнение в древност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упп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 (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следователи дискриминант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ураспад (разложение на множители, выделение полного квадрат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етоло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етологи2, знающие обходной пу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гроки с коэффициент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грамма нашего курса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Практические эксперименты и обмен опытом между групп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ждая группа подготовит сообщение для всех остальных и обучит своему методу справляться с квадратным уравне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4:26:03Z</dcterms:created>
  <dc:creator>MARI</dc:creator>
  <dc:description/>
  <dc:language>en-US</dc:language>
  <cp:lastModifiedBy>26515</cp:lastModifiedBy>
  <dcterms:modified xsi:type="dcterms:W3CDTF">2010-05-24T10:23:16Z</dcterms:modified>
  <cp:revision>23</cp:revision>
  <dc:subject/>
  <dc:title>Слайд 1</dc:title>
</cp:coreProperties>
</file>